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EE2-1ED3-4125-99A5-EF6FA47B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532-144A-4D95-9055-2BD116FD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EB9-BFBC-4D3C-A79A-5A31B927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9F3-D9B6-4C6E-A8BF-0E068FB7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C89A-2708-4D74-A1D4-C45B0440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5628-FECE-4670-A96C-6A88B9EB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293B-3024-4692-AEA5-122C1920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BEBB-1F23-4304-87C3-EB2F42D9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8D0A-5DA2-4A75-8023-A906FD05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05DE-4BA0-47E9-863F-89278F95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07CC-A66F-4F77-AF9A-4469C8F9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409-8F11-4BB0-BC90-C95D5617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467B-1C27-4332-8F3B-590C8C36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9059-E622-4D28-B74C-AE4415EE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A1A2-167F-47C9-8070-7E10846F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8E30-5924-42B1-8A69-7AE277F8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A199-A34C-40A9-95ED-AAA86736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7BE3-06BE-4904-87DE-7446AB22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6896-DF58-46FA-BD7A-739B2274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4FE2-7726-4C2D-B41A-E11F6329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FEA7A-0816-41EE-8CEE-F04E07BF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7FD03-588B-428A-B273-C7DE9871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99B-A790-464D-8860-77573846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AE6A-F068-420C-BEA3-623CD6C3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5AF42-B1E7-4F0C-B6C5-507C0901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3F01-8F9F-4330-9BAF-BF6F1600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2AD5-8754-496B-BBC6-12EAA970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9072-28A4-4BA3-A0E6-B0406BB4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1CEC-5253-4F2B-8F14-AE2B6844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0A31-3ED6-46D8-9DAF-4E7489D9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A6A25-227B-461D-B969-9036742C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6C77-212C-4723-B7CA-9C953F43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1D6DE-ABE8-45FB-AE9A-EE577AAD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CB2-8644-4DC3-812E-DF3DD038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5CA93-AB3D-496E-AE15-57889A65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0B77-C1CA-4623-AD98-773FBA87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3CF7-49EE-4156-A106-8267684A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DDC7-A24E-4D89-8E37-F70AF5A1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A9AE-7800-4374-B3FB-376848D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FEFD2-6AF0-4625-B620-62D980F3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4B889-F3CB-49B1-A914-FAB81DD9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C9DE4-4817-4F84-819C-2B096C2A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B09E7-A5EB-49C9-B1D7-5B2D04E2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A82-94D7-4F84-B2E5-15CE96D4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F30-8F10-4DD3-B731-95D05587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644-B847-43DF-8A30-67EBF413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13E-FD37-4946-9A91-395339F1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9FA-388D-436A-9E71-4A6F60AE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BC91-FCF1-42AA-AA6D-454A8BF353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4795-9321-42C7-9328-282579676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F983-7056-4BD4-B341-604ABE160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439B-2A65-49EF-BE85-58243ECA2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vm.usu.edu/en/nav/vlibrary.html" TargetMode="External"/><Relationship Id="rId3" Type="http://schemas.openxmlformats.org/officeDocument/2006/relationships/hyperlink" Target="http://nlvm.usu.edu/en/nav/vlibrary.html" TargetMode="External"/><Relationship Id="rId4" Type="http://schemas.openxmlformats.org/officeDocument/2006/relationships/hyperlink" Target="http://nlvm.usu.edu/en/nav/vlibrary.html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enter.k12.mo.us/Edtech/everydaymath.htm" TargetMode="External"/><Relationship Id="rId3" Type="http://schemas.openxmlformats.org/officeDocument/2006/relationships/hyperlink" Target="http://illuminations.nctm.org/Activities.aspx?grade=1&amp;grade=2&amp;grade=3&amp;grade=4" TargetMode="External"/><Relationship Id="rId4" Type="http://schemas.openxmlformats.org/officeDocument/2006/relationships/hyperlink" Target="http://www.shodor.org/interactivate/" TargetMode="External"/><Relationship Id="rId5" Type="http://schemas.openxmlformats.org/officeDocument/2006/relationships/hyperlink" Target="http://www.shodor.org/interactivate/" TargetMode="External"/><Relationship Id="rId6" Type="http://schemas.openxmlformats.org/officeDocument/2006/relationships/hyperlink" Target="http://www.shodor.org/interactivate/" TargetMode="Externa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bistar.4teachers.org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chool.discovery.com/schrockguide/assess.html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uzzlemaker.school.discovery.com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4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Tuesday, March 13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eb 2.0 and Educat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tud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authorship / particip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riou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llaborativ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communities of lear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courages student-centered,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nstructivi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hands-on,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informa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learn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Legitimiz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students as producers / aut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467000" cy="53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52120" y="152352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fers students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option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ntro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v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motes PBL’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oblem Based Learning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oject Based Learning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assion Based Learning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467000" cy="539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47712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Blog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student auth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Wik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collaborative work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Podcast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audio / vide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Media-shar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tagged photo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vid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Flickr &amp; You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ocial Network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shar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MySpace &amp; Pic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R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aggregator; informati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Virtual world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digit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Second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Social Annotatio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shar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es on web-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Di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Virtual Workspac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interacti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haring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Vyew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Virtual Math Manipulative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3857760" cy="291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904760" y="228564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be an effective </a:t>
            </a: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assistiv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technolog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milar to gaming; inte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ous levels, strands,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inesthetic learners benefit grea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Virtual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057400" y="2133720"/>
            <a:ext cx="358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ational Libr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f 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anipu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st known, most ex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Virtual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5867280" y="2590920"/>
            <a:ext cx="2943360" cy="202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- "Did You Know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web 2.0? – the read/writ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2.0 in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based Math Manipu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ach to assessment - Rubric builders on-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Given the changing nature of information, can teachers be effective educators without changing too?</a:t>
            </a:r>
            <a:br>
              <a:rPr sz="2400"/>
            </a:b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0" y="2514600"/>
            <a:ext cx="6324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veryday Math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CTM Illum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hodo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terac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Virtual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133720" y="99036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Rubric-based Assessment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629400" y="3733920"/>
            <a:ext cx="143820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752480" y="2286000"/>
            <a:ext cx="701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formance-based (authentic)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ves away from traditional assessment means (test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752120" y="175212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acher and / or student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acher and / or peer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st when known up-front of activity – allows students to tail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i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-line tool for teachers (and students) to develop rubrics for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257800" y="3809880"/>
            <a:ext cx="3600360" cy="233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scove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dy-made rubrics, web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easily ada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181480" y="2514600"/>
            <a:ext cx="3276720" cy="203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uzzlemaker…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uzzle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tes many puzz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uzzl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6553440" cy="167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it possible to be a good teacher without using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a teacher serve his/her students in the best way possible without using technology, or do the realities of today’s student demand that teachers accept and utilize technology in their tea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 we simply expecting too much from our teachers and our student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hat is…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5638680" cy="406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 do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Blog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ichardson, Pages 1-15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arlick, Pages 20 - 33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504960" y="2742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Web 2.0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225200" y="39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52480" y="20570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Web 1.0”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web-based services that was primarily read-only b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nowledge /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acce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key to web pub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e-way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52480" y="20570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econd genera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f web-ba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phasis on on-line sharing and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2.0”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hints at improved or upgrade to original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828440" y="23623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Web 2.0”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“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Read – writ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” web-based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ess for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har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/ two-way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904760" y="23623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Every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 be an 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ti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changing global economi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Participator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/ democra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jeff.whipple</cp:lastModifiedBy>
  <dcterms:modified xsi:type="dcterms:W3CDTF">2007-03-13T18:13:40Z</dcterms:modified>
  <cp:revision>39</cp:revision>
  <dc:subject/>
  <dc:title>Welcome to  ED3862</dc:title>
</cp:coreProperties>
</file>